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3AED-B78B-4774-B764-17076F0D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respiratory-system/deck/48888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200-7F70-4CF5-A9F6-531897E9184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5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A291-25F7-4884-9419-2D6D74CC1E0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academic.brooklyn.cuny.edu/biology/bio4fv/page/3d_prot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1A27-383B-4E7F-9D20-03D0E41459B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009D-DBB4-4CA2-B3F1-2789F5DE2E2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E1DE-D8A6-4FE1-BAA7-282AF07C191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uture-of-technology.com/index.php?p=2_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FC68-6C71-489B-9545-3E7A0E1A808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act ratio - for every NADH oxidized, 10H+ ions cross, and since 3-4 H+ ions need to flow back through ATP synthase for every ATP molecule produced, it’s ABOUT  3 ATP for each N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napsurveys.com/blog/survey-ranking-questions-rating-question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hitelightsonwednesday.com/2013/10/most-powerful-th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skgeorgie.com/creatine-and-asthma-link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bio.info/horn/intmet/integration_of_metabolism%20v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A1F-56B6-45CC-845F-78FB7268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562-8E9A-43CB-86B4-A210CA4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FDF-5BE7-4738-BF07-8A7DCDE3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568-5D23-4579-ABB6-9840D927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577-80C5-45AA-A6E9-58B50B84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589-179D-4E07-AB11-EB87947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317-1E8A-4FAD-83D4-8A2A8630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540-BD81-498E-ABB6-F8AB1C8A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F26-31DD-425B-95B5-620F755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B3F-CEE8-4752-9162-DF7DF67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929-134B-473D-8F15-EB17FDC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33A-CEA9-4EBA-888F-3214C43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7C79-D5F5-47E7-9ABB-8C66CBF2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&amp; Regul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•Alternatives to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Cellular Respiration Reg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00280" y="304920"/>
            <a:ext cx="4095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g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from o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 glucose is converted to and stored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yc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 the muscle &amp; liver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arbohydrates, proteins and lipids can also be metabolized for energy by entering the cellular respiration pathway at various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3800" y="304920"/>
            <a:ext cx="7014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ch &amp; disaccharides are digested into individual glucose monomers using amylase &amp; disaccharid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glycolysis at early stages (as glucose or glucose-6-phosph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digested into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groups are then removed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99000" y="1905120"/>
            <a:ext cx="21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 reactions convert the remaining part of the amino acids into intermediates of glycolysis or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16600"/>
        </p:xfrm>
        <a:graphic>
          <a:graphicData uri="http://schemas.openxmlformats.org/drawingml/2006/table">
            <a:tbl>
              <a:tblPr/>
              <a:tblGrid>
                <a:gridCol w="4749840"/>
                <a:gridCol w="3022560"/>
              </a:tblGrid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e, cysteine, glycine, serine, threo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e, ly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m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agine, aspar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, glutamate, glutamine, histidine, pro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lycerides are first digest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yce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7576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oretical ideal conditions, 1 glucose molecule yields a maximum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TP molecule --&gt; 31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 ATP x 31 kJ/mol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78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glucose molecule --&gt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870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iciency of aerobic cellular respiration is abou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4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is either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n G3P), and enter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erobic conditions, fatty acids are then transported to the matrix of the mitochondria and under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β-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-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tty acid chain is cleaved into 2-carbon acetyl groups, which are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etyl-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ente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ATP are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tivate the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leavage produ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FADH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Yield: less than 38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DH molecule results in a maximum of 3 ATP through oxidative phosphorylation, but this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exac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from cytosolic NADH are transferred to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FAD in the matrix through one of tw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shuttle”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Yield: less than 38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rom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 may b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other mitochondrial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rom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 may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e to uncoupl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ATP do we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mount of energy used per un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 metabolic rate (B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gender, growth &amp; development, age, muscle mass,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ak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T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e 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oduced from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is stored in skeletal musc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hosphorylated by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is reversed when ATP demand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2529000"/>
            <a:ext cx="41911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10-21T17:34:43Z</dcterms:modified>
  <cp:revision>158</cp:revision>
  <dc:subject/>
  <dc:title>Anaerobic Pathways</dc:title>
</cp:coreProperties>
</file>